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33E-259F-4740-8FB3-D3E3F6D6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B7F-F38A-4BFA-8923-80E00FC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DA05D-83F6-4A0B-AB0F-93BA534A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E15F4-9395-433A-AE74-53DE337C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0C067-ECE4-46C9-A96C-D9FBD085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A6DEE-B62B-4705-B667-9E12C40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1C42B-26FD-43DE-891D-88886DC2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78F07-22FF-4FFA-B394-C81F340B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7821F-9853-46AE-AFE1-8D99ADFD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79914-30A2-4346-AA93-1494EF33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5F163-4712-448D-8336-EE7A9312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443-9A3B-4DFE-A391-17A139AA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23C-0D24-4005-9009-414FBF68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5AD2-1510-4431-A650-6F7B4604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9A3B-D75E-48F3-BAD1-AF98327B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994F-B116-4FBF-9F96-2E5A901E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EAC2-D836-41D1-836C-05D12B7A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6707-5B9B-4771-9BBE-A0633B08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9C0E-849B-4874-8DB8-B61345F3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435A-D78E-47C0-8AC3-7C6AF65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34C-3514-4121-9717-63A110A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F4A2-FEC6-4411-B024-94C01EC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9097-02E3-4721-8A08-2653B9F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CAC7-2437-4C99-B5D7-113D996A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47E1-9CDC-4BED-941C-E0614111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A21D-F2F7-49D6-826E-4D800751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9836D-9D7E-421A-B035-6F92A1A6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7F42-0942-44BF-8F6D-BB89AA2F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2B35-D712-44E8-BAD8-DD494174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5332-994A-4E0E-BE95-F2C90540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960D-A38F-448B-84EC-3C9DC0EA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BD4-8E10-46A4-8A9F-C314D864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5E14-3109-4EFC-BA74-78B6884B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B16F-670E-462B-A479-4698B562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24F7-0BCB-4992-A9EA-DBBDA8DE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1885-6083-4011-8B93-8981CC9F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85F2-485D-4E08-BAA7-E5D021AE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F7DD-B6EC-434B-A14C-5EEDD30B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601A-999A-46FE-9EA6-603AD8DF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31FC-08B3-49D0-8F87-E179ECF5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9242-E647-446B-9576-3D55B1F3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F9B8-8231-48EE-8829-754E69A4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61D-63DF-4BB4-8EA1-FCEEF0EC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28CF2-C761-4F46-8C2E-16389851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1DD6-D41E-4783-954A-1E926ECD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128F1-A244-4861-B8E4-8E0D8564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2FF2-3A2A-456B-8147-E76F2661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253C-E079-47A2-8AC4-DAF085E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A0BB-1A14-48EF-8168-A7F25F3D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0C9D8-38DC-46F0-B738-EE04A6E2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75C4-3200-4980-89A3-F8A5A672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307D0-BF0D-4351-A81C-BAB08629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DD984-F404-4454-9681-25EFEAC6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196-753D-4FBA-BF3B-E2B01558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79F77-705E-4F58-B35E-B40A4080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A3A49-5F2A-4ACE-BDA7-02FC300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09D9F-B9A9-4F19-B421-3E0D2A70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916D2-B125-47C4-BF66-EDAF869D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FFB94-6057-4F66-99E1-90415053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46808-3486-47CC-90BF-285CBD10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9E54-9511-40D4-8303-4044CB7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4113-3867-4D09-BAA9-A6C27F60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99B36-78F3-4E92-B079-76B7F189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B602E-B03C-4FBE-9604-370A8519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631-C9A5-4F11-A953-F3EDE42D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93102-C0FB-48AD-B8AB-5E26BF17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8109A-B623-4853-8116-92FDB7EA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36F7-A9CD-40D5-9C9D-F4901DD2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7AD4-3CAD-47E2-A684-9FD3605C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0C5AA-A761-491E-9995-20F143B5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A9CA1-7EC8-47D7-B6CE-E37DA48C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840D4-03B9-4BDD-85A0-D163008A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6DBFD-C529-452C-B1B2-EE0D5F0D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8C6D-1A8E-496E-8C0C-9DEF84BE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2B567-06C3-4381-9E93-6D9ABFB1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480-2780-4BDF-928E-58C73FD7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9B665-5F83-497A-B040-D60FCDE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9AE83-DA23-43CD-B1F7-CCE110FB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4432-0217-49E0-84F5-92A8FC9E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979E6-DDF7-4ECA-9619-13BF06B4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D311C-AC0B-4F5F-9CFE-67EFEA86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47159-43BA-4959-9D17-39922985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57C42-7B94-4EEA-8538-89E1AECB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04573-BBC3-469A-8AA4-40243DB3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12B53-081B-4059-924C-32ABAA33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3F22-0F43-47B3-9D5E-CC27250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410-647A-4372-A407-FAF0B88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E99E5-7D5B-41A1-8B88-0B783CF9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FBB82-A68B-40C0-85D3-51BC867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570AA-77A6-455C-87D0-F779D2DB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C92C6-2CDC-4EF6-A29B-95B1F238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AE6EC-D01A-4F57-9391-DA557CCD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D58FF-5524-4CCB-810F-67C060BF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1DA11-2B11-4558-A189-B3B72625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0BA05-5BFA-4F3C-A6E8-8EDDC112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8EE71-9717-400E-B59E-20EB817D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AB19E-0991-4126-9C5A-EBA5EB70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37B-66B5-4943-A85C-8F4AAE9E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85EE3-FFBB-4445-BA73-33FD22C5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13C3B-6E3F-454D-83A8-B3887F8F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59D48-9EC2-4439-85D8-09A3DBBC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43F3-1637-4ED3-8041-DE80FD1F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C4F3D-49E1-41B8-8918-F609F456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CDBC9-14AF-45E1-8BF4-752EED69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4EC05-A41B-481A-A430-C75FDDD5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EDEF5-00C8-4A5B-AB47-492B332D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32C78-58DF-4B79-88E8-8568F9F5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294FE-78A2-4778-9D01-A5D4E000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C625-2934-4E12-AFC7-18A231C5C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8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E55F-37D4-4553-98D8-EDF942A0AB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04" name="任意多边形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7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59D2-2AC1-46AD-B64E-04C3D0C62B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7BE1-C340-49DC-92AB-ABE6D81750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19C8-B573-4C64-913C-80D9398739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F267-4483-47CF-8D6C-6482468370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1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AB14-CCB1-4863-A528-A564900CB0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1DC0-3FD7-4F89-A8FB-9D359A13DD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任意多边形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任意多边形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9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2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8754-8035-46D6-BBBC-CF34172703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6"/>
          <p:cNvSpPr/>
          <p:nvPr/>
        </p:nvSpPr>
        <p:spPr>
          <a:xfrm>
            <a:off x="1577880" y="2881440"/>
            <a:ext cx="64994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师资格定期注册工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981080"/>
            <a:ext cx="8229600" cy="37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否参与注册”选择“是”、“是否参与网报”选择“否”，申请人申报第四步，给出提示信息：该机构注册工作目前未安排网上采集信息的时间，请与该机构联系，了解其注册工作的时间安排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否参与注册”选择“是”、“是否参与网报”选择“是”，但是还没到网报时间或者网报时间已过，申请人申报第四步，给出提示信息：您目前不能注册，该机构注册工作网上采集时间段为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**: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**:**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6" name="标题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519120" y="2151000"/>
            <a:ext cx="82296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未设初审计划或者“是否参与注册”选择“否”或“请选择”，申请人申报第四步，给出提示信息：该机构目前未开展注册工作，请与该机构联系，了解其注册工作的时间安排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否参与注册”选择“是”、“是否参与网报”选择“是”，且正在网报时间范围内，申请人可以正常从申报第四步进行到申报第五步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标题 1"/>
          <p:cNvSpPr/>
          <p:nvPr/>
        </p:nvSpPr>
        <p:spPr>
          <a:xfrm>
            <a:off x="336600" y="471600"/>
            <a:ext cx="858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准备阶段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--</a:t>
            </a: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注册机构设置初审注册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519120" y="2151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基础管理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确认点管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基础管理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确认用户管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标题 1" descr=""/>
          <p:cNvPicPr/>
          <p:nvPr/>
        </p:nvPicPr>
        <p:blipFill>
          <a:blip r:embed="rId1"/>
          <a:stretch/>
        </p:blipFill>
        <p:spPr>
          <a:xfrm>
            <a:off x="268200" y="165240"/>
            <a:ext cx="8425080" cy="126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98072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定期注册管理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|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安排确认点工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2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2"/>
          <a:stretch/>
        </p:blipFill>
        <p:spPr>
          <a:xfrm>
            <a:off x="446040" y="2990880"/>
            <a:ext cx="768672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82760" y="218736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如未设置确认时间和注意事项，系统提示信息：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省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市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县教育局目前没有安排确认点，请与该机构联系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5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标题 1" descr=""/>
          <p:cNvPicPr/>
          <p:nvPr/>
        </p:nvPicPr>
        <p:blipFill>
          <a:blip r:embed="rId1"/>
          <a:stretch/>
        </p:blipFill>
        <p:spPr>
          <a:xfrm>
            <a:off x="1189080" y="2182680"/>
            <a:ext cx="6315120" cy="148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82400" y="4889160"/>
            <a:ext cx="76150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已经注册过，直接登录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异常情况：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已经注册，填错了证件号码和证书号码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已经注册，填错了其他信息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找回密码：填错了邮箱（找回密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8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738360" y="1274760"/>
            <a:ext cx="7000560" cy="346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665280" y="1347840"/>
            <a:ext cx="7881840" cy="2643120"/>
          </a:xfrm>
          <a:prstGeom prst="rect">
            <a:avLst/>
          </a:prstGeom>
          <a:ln w="0">
            <a:noFill/>
          </a:ln>
        </p:spPr>
      </p:pic>
      <p:pic>
        <p:nvPicPr>
          <p:cNvPr id="541" name="标题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内容占位符 2"/>
          <p:cNvSpPr/>
          <p:nvPr/>
        </p:nvSpPr>
        <p:spPr>
          <a:xfrm>
            <a:off x="714240" y="4429080"/>
            <a:ext cx="761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内容占位符 2"/>
          <p:cNvSpPr/>
          <p:nvPr/>
        </p:nvSpPr>
        <p:spPr>
          <a:xfrm>
            <a:off x="701640" y="4232160"/>
            <a:ext cx="7615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身份证件号码必须填写二代身份证号码；证件号码不规范报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教师资格证书号码必须填写：证书上无号码；证书号码不规范（规范的证书号码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位和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7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位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证书分类：在系统中（历史数据、当前批次认定数据）；不在系统中（不是历史数据和当前批次数据）；在限制库中；当前批次已经报过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322280" y="1347840"/>
            <a:ext cx="4743720" cy="3309840"/>
          </a:xfrm>
          <a:prstGeom prst="rect">
            <a:avLst/>
          </a:prstGeom>
          <a:ln w="0">
            <a:noFill/>
          </a:ln>
        </p:spPr>
      </p:pic>
      <p:pic>
        <p:nvPicPr>
          <p:cNvPr id="545" name="标题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46" name="内容占位符 2"/>
          <p:cNvSpPr/>
          <p:nvPr/>
        </p:nvSpPr>
        <p:spPr>
          <a:xfrm>
            <a:off x="701640" y="4925880"/>
            <a:ext cx="7615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证书在系统中；证书不在系统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证书签发日期在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996</a:t>
            </a: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和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2012</a:t>
            </a: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之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认定机构改名称后报给省教育厅，省教育厅汇总报给我们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任教学科可以为“无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注册机构的选择按照人事隶属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标题 1"/>
          <p:cNvSpPr/>
          <p:nvPr/>
        </p:nvSpPr>
        <p:spPr>
          <a:xfrm>
            <a:off x="1395360" y="2187720"/>
            <a:ext cx="5915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登录网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2557800" y="2333520"/>
            <a:ext cx="4277880" cy="3619080"/>
            <a:chOff x="2557800" y="2333520"/>
            <a:chExt cx="4277880" cy="3619080"/>
          </a:xfrm>
        </p:grpSpPr>
        <p:grpSp>
          <p:nvGrpSpPr>
            <p:cNvPr id="427" name="Group 3"/>
            <p:cNvGrpSpPr/>
            <p:nvPr/>
          </p:nvGrpSpPr>
          <p:grpSpPr>
            <a:xfrm>
              <a:off x="2557800" y="2333520"/>
              <a:ext cx="1186560" cy="3619080"/>
              <a:chOff x="2557800" y="2333520"/>
              <a:chExt cx="1186560" cy="3619080"/>
            </a:xfrm>
          </p:grpSpPr>
          <p:sp>
            <p:nvSpPr>
              <p:cNvPr id="428" name="Text Box 4"/>
              <p:cNvSpPr/>
              <p:nvPr/>
            </p:nvSpPr>
            <p:spPr>
              <a:xfrm>
                <a:off x="2660400" y="2333520"/>
                <a:ext cx="85140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1" action="ppaction://hlinksldjump"/>
                  </a:rPr>
                  <a:t>准备阶段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5"/>
              <p:cNvSpPr/>
              <p:nvPr/>
            </p:nvSpPr>
            <p:spPr>
              <a:xfrm>
                <a:off x="2660400" y="3147120"/>
                <a:ext cx="85140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2" action="ppaction://hlinksldjump"/>
                  </a:rPr>
                  <a:t>网上申报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7"/>
              <p:cNvSpPr/>
              <p:nvPr/>
            </p:nvSpPr>
            <p:spPr>
              <a:xfrm>
                <a:off x="2660400" y="3923640"/>
                <a:ext cx="85140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3" action="ppaction://hlinksldjump"/>
                  </a:rPr>
                  <a:t>现场确认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8"/>
              <p:cNvSpPr/>
              <p:nvPr/>
            </p:nvSpPr>
            <p:spPr>
              <a:xfrm>
                <a:off x="2557800" y="4698360"/>
                <a:ext cx="118656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4" action="ppaction://hlinksldjump"/>
                  </a:rPr>
                  <a:t>注册机构审批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1"/>
              <p:cNvSpPr/>
              <p:nvPr/>
            </p:nvSpPr>
            <p:spPr>
              <a:xfrm>
                <a:off x="3051360" y="2837880"/>
                <a:ext cx="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2"/>
              <p:cNvSpPr/>
              <p:nvPr/>
            </p:nvSpPr>
            <p:spPr>
              <a:xfrm>
                <a:off x="3102840" y="3612240"/>
                <a:ext cx="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3"/>
              <p:cNvSpPr/>
              <p:nvPr/>
            </p:nvSpPr>
            <p:spPr>
              <a:xfrm>
                <a:off x="3156840" y="4388400"/>
                <a:ext cx="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5"/>
              <p:cNvSpPr/>
              <p:nvPr/>
            </p:nvSpPr>
            <p:spPr>
              <a:xfrm>
                <a:off x="2714760" y="5477760"/>
                <a:ext cx="85140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5" action="ppaction://hlinksldjump"/>
                  </a:rPr>
                  <a:t>注册结束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7"/>
              <p:cNvSpPr/>
              <p:nvPr/>
            </p:nvSpPr>
            <p:spPr>
              <a:xfrm>
                <a:off x="3128400" y="5165280"/>
                <a:ext cx="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组合 16"/>
            <p:cNvGrpSpPr/>
            <p:nvPr/>
          </p:nvGrpSpPr>
          <p:grpSpPr>
            <a:xfrm>
              <a:off x="4672080" y="4003920"/>
              <a:ext cx="2163600" cy="1744920"/>
              <a:chOff x="4672080" y="4003920"/>
              <a:chExt cx="2163600" cy="1744920"/>
            </a:xfrm>
          </p:grpSpPr>
          <p:sp>
            <p:nvSpPr>
              <p:cNvPr id="438" name="左大括号 14"/>
              <p:cNvSpPr/>
              <p:nvPr/>
            </p:nvSpPr>
            <p:spPr>
              <a:xfrm>
                <a:off x="4672080" y="4082400"/>
                <a:ext cx="162000" cy="1612440"/>
              </a:xfrm>
              <a:custGeom>
                <a:avLst/>
                <a:gdLst>
                  <a:gd name="textAreaLeft" fmla="*/ 103680 w 162000"/>
                  <a:gd name="textAreaRight" fmla="*/ 162360 w 162000"/>
                  <a:gd name="textAreaTop" fmla="*/ 2880 h 1612440"/>
                  <a:gd name="textAreaBottom" fmla="*/ 1609560 h 161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66"/>
                      <a:pt x="10800" y="132"/>
                    </a:cubicBezTo>
                    <a:lnTo>
                      <a:pt x="10800" y="10668"/>
                    </a:lnTo>
                    <a:cubicBezTo>
                      <a:pt x="10800" y="10734"/>
                      <a:pt x="5400" y="10800"/>
                      <a:pt x="0" y="10800"/>
                    </a:cubicBezTo>
                    <a:cubicBezTo>
                      <a:pt x="5400" y="10800"/>
                      <a:pt x="10800" y="10866"/>
                      <a:pt x="10800" y="10932"/>
                    </a:cubicBezTo>
                    <a:lnTo>
                      <a:pt x="10800" y="21468"/>
                    </a:lnTo>
                    <a:cubicBezTo>
                      <a:pt x="10800" y="21534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15"/>
              <p:cNvSpPr/>
              <p:nvPr/>
            </p:nvSpPr>
            <p:spPr>
              <a:xfrm>
                <a:off x="4996440" y="4003920"/>
                <a:ext cx="173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初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Box 16"/>
              <p:cNvSpPr/>
              <p:nvPr/>
            </p:nvSpPr>
            <p:spPr>
              <a:xfrm>
                <a:off x="5050440" y="4750920"/>
                <a:ext cx="173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复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Box 17"/>
              <p:cNvSpPr/>
              <p:nvPr/>
            </p:nvSpPr>
            <p:spPr>
              <a:xfrm>
                <a:off x="5104800" y="5380560"/>
                <a:ext cx="173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终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TextBox 17"/>
          <p:cNvSpPr/>
          <p:nvPr/>
        </p:nvSpPr>
        <p:spPr>
          <a:xfrm>
            <a:off x="1504800" y="1165320"/>
            <a:ext cx="48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定期注册流程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标题 1" descr=""/>
          <p:cNvPicPr/>
          <p:nvPr/>
        </p:nvPicPr>
        <p:blipFill>
          <a:blip r:embed="rId1"/>
          <a:stretch/>
        </p:blipFill>
        <p:spPr>
          <a:xfrm>
            <a:off x="438120" y="573120"/>
            <a:ext cx="4494240" cy="10429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914400" y="171288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机构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ukey.jszg.edu.cn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bKEY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登录地址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mimaka.jszg.edu.cn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（密码卡登录地址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确认机构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queren.jszg.edu.c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申请人报名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jszg.edu.c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标题 1" descr=""/>
          <p:cNvPicPr/>
          <p:nvPr/>
        </p:nvPicPr>
        <p:blipFill>
          <a:blip r:embed="rId1"/>
          <a:stretch/>
        </p:blipFill>
        <p:spPr>
          <a:xfrm>
            <a:off x="512640" y="500040"/>
            <a:ext cx="4711680" cy="1384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190080" y="1858680"/>
            <a:ext cx="89535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机构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www.jszg.cn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443/portal/home/auth/certLo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www.jszg.cn/portal/home/auth/otherAdminLo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确认机构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ww.jszg.cn/portal/home/auth/confAdminLo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申请人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ww.jszg.c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7596360" y="291960"/>
            <a:ext cx="1554120" cy="58608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3"/>
          <p:cNvGrpSpPr/>
          <p:nvPr/>
        </p:nvGrpSpPr>
        <p:grpSpPr>
          <a:xfrm>
            <a:off x="792000" y="1341360"/>
            <a:ext cx="4956120" cy="2305080"/>
            <a:chOff x="792000" y="1341360"/>
            <a:chExt cx="4956120" cy="2305080"/>
          </a:xfrm>
        </p:grpSpPr>
        <p:sp>
          <p:nvSpPr>
            <p:cNvPr id="445" name="Text Box 5"/>
            <p:cNvSpPr/>
            <p:nvPr/>
          </p:nvSpPr>
          <p:spPr>
            <a:xfrm>
              <a:off x="792000" y="2206440"/>
              <a:ext cx="16556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在信息系统中上报全省注册计划：包括定期注册起止时间、初审起止时间、复核起止时间、终审起止时间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通过网站、内部通知等多种形式发布定期注册工作相关信息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7"/>
            <p:cNvSpPr/>
            <p:nvPr/>
          </p:nvSpPr>
          <p:spPr>
            <a:xfrm>
              <a:off x="1171440" y="1341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省级管理用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8"/>
            <p:cNvSpPr/>
            <p:nvPr/>
          </p:nvSpPr>
          <p:spPr>
            <a:xfrm>
              <a:off x="4498920" y="1341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注册用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3913200" y="1822320"/>
              <a:ext cx="183492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在信息系统中设置本机构的注册计划（初审、复核或终审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初审注册用户在信息系统中设置现场确认点、建现场确认用户、安排现场确认时间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初审注册用户确定进行现场确认的场所、设备及人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通过报纸、网站、内部通知等多种形式发布定期注册工作相关信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2"/>
            <p:cNvSpPr/>
            <p:nvPr/>
          </p:nvSpPr>
          <p:spPr>
            <a:xfrm>
              <a:off x="2447640" y="364644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13"/>
          <p:cNvSpPr/>
          <p:nvPr/>
        </p:nvSpPr>
        <p:spPr>
          <a:xfrm>
            <a:off x="684360" y="6165720"/>
            <a:ext cx="865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811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>
            <a:off x="3132000" y="836640"/>
            <a:ext cx="0" cy="519264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624720" y="2097000"/>
            <a:ext cx="1619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根据初审注册机构安排，做好现场确认点的场地、设备及人员准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指定专人保管登录系统的帐号和密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发布确认工作及确认点相关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7210440" y="1233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确认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>
            <a:off x="5724360" y="3537000"/>
            <a:ext cx="9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用户即初审用户，涉及到区县教育局、市教育局和省教育厅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其中，区县教育局有一种角色：初审；市教育局有两种角色：初审和复核；省教育厅有三种角色：初审、复核和终审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结束后，注册机构所盖的章为初审机构的印章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7596360" y="291960"/>
            <a:ext cx="1554120" cy="58608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6"/>
          <p:cNvSpPr/>
          <p:nvPr/>
        </p:nvSpPr>
        <p:spPr>
          <a:xfrm>
            <a:off x="787320" y="6164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811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37016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册机构（确认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92000" y="3429000"/>
            <a:ext cx="23418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解答申请人填报过程的疑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完善现场确认准备情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5699880" y="13622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申请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4753080" y="3357720"/>
            <a:ext cx="3708360" cy="17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阅读教师资格定期注册相关政策说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登录网上申报系统注册，填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修改申请资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打印教师资格定期注册申请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阅读现场确认注意事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准备其它相关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9"/>
          <p:cNvSpPr/>
          <p:nvPr/>
        </p:nvSpPr>
        <p:spPr>
          <a:xfrm>
            <a:off x="3095640" y="2133720"/>
            <a:ext cx="1908000" cy="466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定期注册开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2017800" y="242100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2"/>
          <p:cNvSpPr/>
          <p:nvPr/>
        </p:nvSpPr>
        <p:spPr>
          <a:xfrm>
            <a:off x="2017800" y="2421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5003640" y="2384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6445080" y="2384280"/>
            <a:ext cx="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4176720" y="441360"/>
            <a:ext cx="0" cy="641664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7388280" y="212760"/>
            <a:ext cx="1762200" cy="6285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8"/>
          <p:cNvSpPr/>
          <p:nvPr/>
        </p:nvSpPr>
        <p:spPr>
          <a:xfrm>
            <a:off x="6156360" y="1197000"/>
            <a:ext cx="2784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携带申请资料到现场确认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1425600" y="8636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现场确认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6942960" y="793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申请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7074360" y="3284640"/>
            <a:ext cx="1186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核对网上所填写个人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6664320" y="4165560"/>
            <a:ext cx="1727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补全材料在指定时间和地点再次确认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863640" y="2025720"/>
            <a:ext cx="1584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Arial"/>
              </a:rPr>
              <a:t>核对网上填写信息与实际情况是否一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9"/>
          <p:cNvSpPr/>
          <p:nvPr/>
        </p:nvSpPr>
        <p:spPr>
          <a:xfrm>
            <a:off x="1108080" y="2709720"/>
            <a:ext cx="11192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Arial"/>
              </a:rPr>
              <a:t>修改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zh-CN" sz="1200" spc="-1" strike="noStrike">
                <a:solidFill>
                  <a:srgbClr val="0000cc"/>
                </a:solidFill>
                <a:latin typeface="Arial"/>
              </a:rPr>
              <a:t>确认申请人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Arial"/>
              </a:rPr>
              <a:t>帮助申请人查看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0"/>
          <p:cNvSpPr/>
          <p:nvPr/>
        </p:nvSpPr>
        <p:spPr>
          <a:xfrm>
            <a:off x="747720" y="4135320"/>
            <a:ext cx="172872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材料是否齐全合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1"/>
          <p:cNvSpPr/>
          <p:nvPr/>
        </p:nvSpPr>
        <p:spPr>
          <a:xfrm>
            <a:off x="1047240" y="3429000"/>
            <a:ext cx="912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步审查申请材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1375920" y="6097680"/>
            <a:ext cx="54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材料上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6"/>
          <p:cNvSpPr/>
          <p:nvPr/>
        </p:nvSpPr>
        <p:spPr>
          <a:xfrm>
            <a:off x="1269000" y="1449360"/>
            <a:ext cx="729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登录确认系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9"/>
          <p:cNvSpPr/>
          <p:nvPr/>
        </p:nvSpPr>
        <p:spPr>
          <a:xfrm>
            <a:off x="7597800" y="1486080"/>
            <a:ext cx="36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1"/>
          <p:cNvSpPr/>
          <p:nvPr/>
        </p:nvSpPr>
        <p:spPr>
          <a:xfrm>
            <a:off x="7632720" y="357336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2"/>
          <p:cNvSpPr/>
          <p:nvPr/>
        </p:nvSpPr>
        <p:spPr>
          <a:xfrm flipH="1">
            <a:off x="6048000" y="38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3"/>
          <p:cNvSpPr/>
          <p:nvPr/>
        </p:nvSpPr>
        <p:spPr>
          <a:xfrm flipV="1">
            <a:off x="6048360" y="18795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4"/>
          <p:cNvSpPr/>
          <p:nvPr/>
        </p:nvSpPr>
        <p:spPr>
          <a:xfrm flipV="1">
            <a:off x="6048360" y="382392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0"/>
          <p:cNvSpPr/>
          <p:nvPr/>
        </p:nvSpPr>
        <p:spPr>
          <a:xfrm flipH="1">
            <a:off x="1677960" y="1881360"/>
            <a:ext cx="43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1"/>
          <p:cNvSpPr/>
          <p:nvPr/>
        </p:nvSpPr>
        <p:spPr>
          <a:xfrm>
            <a:off x="1655640" y="173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2"/>
          <p:cNvSpPr/>
          <p:nvPr/>
        </p:nvSpPr>
        <p:spPr>
          <a:xfrm>
            <a:off x="1619280" y="24922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3"/>
          <p:cNvSpPr/>
          <p:nvPr/>
        </p:nvSpPr>
        <p:spPr>
          <a:xfrm>
            <a:off x="1619280" y="317664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4"/>
          <p:cNvSpPr/>
          <p:nvPr/>
        </p:nvSpPr>
        <p:spPr>
          <a:xfrm>
            <a:off x="1619280" y="3716280"/>
            <a:ext cx="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5"/>
          <p:cNvSpPr/>
          <p:nvPr/>
        </p:nvSpPr>
        <p:spPr>
          <a:xfrm>
            <a:off x="1619280" y="4724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1008000" y="476100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7"/>
          <p:cNvSpPr/>
          <p:nvPr/>
        </p:nvSpPr>
        <p:spPr>
          <a:xfrm>
            <a:off x="1315800" y="5192640"/>
            <a:ext cx="54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材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3"/>
          <p:cNvSpPr/>
          <p:nvPr/>
        </p:nvSpPr>
        <p:spPr>
          <a:xfrm>
            <a:off x="3059280" y="3897360"/>
            <a:ext cx="3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9"/>
          <p:cNvSpPr/>
          <p:nvPr/>
        </p:nvSpPr>
        <p:spPr>
          <a:xfrm>
            <a:off x="2050920" y="630864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3"/>
          <p:cNvSpPr/>
          <p:nvPr/>
        </p:nvSpPr>
        <p:spPr>
          <a:xfrm>
            <a:off x="5003640" y="441360"/>
            <a:ext cx="0" cy="641664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5"/>
          <p:cNvSpPr/>
          <p:nvPr/>
        </p:nvSpPr>
        <p:spPr>
          <a:xfrm>
            <a:off x="7907400" y="6164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811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36"/>
          <p:cNvSpPr/>
          <p:nvPr/>
        </p:nvSpPr>
        <p:spPr>
          <a:xfrm>
            <a:off x="3481200" y="6129360"/>
            <a:ext cx="1095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册机构后续审批工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7"/>
          <p:cNvSpPr/>
          <p:nvPr/>
        </p:nvSpPr>
        <p:spPr>
          <a:xfrm>
            <a:off x="2484360" y="442260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39"/>
          <p:cNvSpPr/>
          <p:nvPr/>
        </p:nvSpPr>
        <p:spPr>
          <a:xfrm>
            <a:off x="6048360" y="4292640"/>
            <a:ext cx="6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40"/>
          <p:cNvSpPr/>
          <p:nvPr/>
        </p:nvSpPr>
        <p:spPr>
          <a:xfrm>
            <a:off x="1619280" y="548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5286240" y="4933800"/>
            <a:ext cx="33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意：不可擅自修改申请人信息。如若修改，必须有申请人的书面委托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7162920" y="341280"/>
            <a:ext cx="2090520" cy="5731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5"/>
          <p:cNvSpPr/>
          <p:nvPr/>
        </p:nvSpPr>
        <p:spPr>
          <a:xfrm>
            <a:off x="1531440" y="2060640"/>
            <a:ext cx="2131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核对确认申请人材料并给出确认意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47800" y="2771640"/>
            <a:ext cx="4381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初审机构初步审查申请人材料并给出初审意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863640" y="3419640"/>
            <a:ext cx="436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复核机构复核申请人信息并给出复核意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2629080" y="5375160"/>
            <a:ext cx="3276360" cy="935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定期注册结束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申请表上有注册意见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教师资格证书上粘贴定期注册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6192720" y="2068560"/>
            <a:ext cx="187164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网查看个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定期注册申报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待注册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定期注册审批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4"/>
          <p:cNvSpPr/>
          <p:nvPr/>
        </p:nvSpPr>
        <p:spPr>
          <a:xfrm>
            <a:off x="1542240" y="1279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册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6840360" y="12333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申请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9"/>
          <p:cNvSpPr/>
          <p:nvPr/>
        </p:nvSpPr>
        <p:spPr>
          <a:xfrm>
            <a:off x="187164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0"/>
          <p:cNvSpPr/>
          <p:nvPr/>
        </p:nvSpPr>
        <p:spPr>
          <a:xfrm>
            <a:off x="1871640" y="310500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2"/>
          <p:cNvSpPr/>
          <p:nvPr/>
        </p:nvSpPr>
        <p:spPr>
          <a:xfrm>
            <a:off x="1871640" y="37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3"/>
          <p:cNvSpPr/>
          <p:nvPr/>
        </p:nvSpPr>
        <p:spPr>
          <a:xfrm>
            <a:off x="7081920" y="3392640"/>
            <a:ext cx="4608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0"/>
          <p:cNvSpPr/>
          <p:nvPr/>
        </p:nvSpPr>
        <p:spPr>
          <a:xfrm>
            <a:off x="1871640" y="479736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>
            <a:off x="4319640" y="4797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87320" y="6164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811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6"/>
          <p:cNvSpPr/>
          <p:nvPr/>
        </p:nvSpPr>
        <p:spPr>
          <a:xfrm>
            <a:off x="5651640" y="441360"/>
            <a:ext cx="0" cy="641664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920880" y="4086360"/>
            <a:ext cx="4308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终审机构终审申请人信息并给出终审意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2"/>
          <p:cNvSpPr/>
          <p:nvPr/>
        </p:nvSpPr>
        <p:spPr>
          <a:xfrm>
            <a:off x="1870200" y="4414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1"/>
          <p:cNvSpPr/>
          <p:nvPr/>
        </p:nvSpPr>
        <p:spPr>
          <a:xfrm>
            <a:off x="1432080" y="2260440"/>
            <a:ext cx="635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初审注册机构准备阶段所做选项与申请人报名对应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标题 1"/>
          <p:cNvSpPr/>
          <p:nvPr/>
        </p:nvSpPr>
        <p:spPr>
          <a:xfrm>
            <a:off x="555480" y="80028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准备阶段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--</a:t>
            </a: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注册机构设置初审注册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内容占位符 2"/>
          <p:cNvSpPr/>
          <p:nvPr/>
        </p:nvSpPr>
        <p:spPr>
          <a:xfrm>
            <a:off x="592200" y="215100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5f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注册管理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设置本机构初审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139760" y="2844720"/>
            <a:ext cx="575316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1:54:55Z</dcterms:created>
  <dc:creator>Administrator</dc:creator>
  <dc:description/>
  <cp:keywords/>
  <dc:language>en-US</dc:language>
  <cp:lastModifiedBy>Lenovo User</cp:lastModifiedBy>
  <dcterms:modified xsi:type="dcterms:W3CDTF">2015-05-04T06:05:56Z</dcterms:modified>
  <cp:revision>1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